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4700-ED08-4459-844E-8712E45D9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B96-C9EC-4E34-9547-A6F63BF7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401-0BBA-4B5E-A6E4-1762090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85-D067-422E-AE8E-AB0D419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87A-339F-4927-A63E-997E786C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617-C22B-4C49-90AB-A990FAA2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D79-6AEB-42EE-AE48-CB004FA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A7F-F1F9-48BE-89EE-2B2972D0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1D9-FB03-41D9-82DE-1A206E1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5AA-FE4D-4FE6-85E5-FB6AE53F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68C-151C-467E-9026-F482B0D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BCA-714E-43A2-A388-5D95436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992-D08E-43F0-AB16-E5D0F7C7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ED8F4-7DCE-46A9-B14A-15D5AF00A6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78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eterverdonedesigns.com/files/hydraulic%20system%20theory.pd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DRÁU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221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s.wikipedia.org/wiki/Hidra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9720" y="4941720"/>
            <a:ext cx="6921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engineeringtoolbox.com/bernouilli-equation-d_183.htm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ydraul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141720"/>
            <a:ext cx="8137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= pressure x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ure in this system = 100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on APPLY piston = 100pascal x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0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on OUTPUT piston = 100pascal x 4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40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616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6160" y="227664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227664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42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Y 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41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720" y="3240000"/>
            <a:ext cx="468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9685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400720" cy="441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588000" y="1052640"/>
            <a:ext cx="2087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flui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valv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rvoir or s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device or act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6036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L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979640"/>
            <a:ext cx="33829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e comprime bajo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quiere la forma del contene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cará una situación de equilib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160720"/>
            <a:ext cx="234000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comprime al someterle a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1260360"/>
            <a:ext cx="180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00720" y="1254240"/>
            <a:ext cx="720720" cy="55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900000"/>
            <a:ext cx="1260360" cy="9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3419640"/>
            <a:ext cx="1260720" cy="12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9640" y="539640"/>
            <a:ext cx="28800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 fluy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4869000"/>
            <a:ext cx="29149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luj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79640" y="630072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IÓN DE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NTO DE FLU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DAD DE LUBR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ENCIA A LA OX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IO DE 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619280"/>
            <a:ext cx="82803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resión aplicada a un fluido confinado se transmite íntegramente en todas las direcciones y ejerce fuerzas iguales sobre áreas iguales, actuando estas fuerzas normalmente a las paredes del recip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2879640"/>
            <a:ext cx="4319280" cy="32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9640" y="3632040"/>
                <a:ext cx="3240360" cy="19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396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uación de Bernouill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41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/2 + P/ρ + g.h = const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581360"/>
            <a:ext cx="77058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= velocidad fl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 = presión (en un punt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 =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 = grav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 = a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1120" y="126000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un fluido ideal (sin viscosidad ni rozamiento) en régimen de circulación por un conducto cerrado, su energía permanece constante a lo largo de su recorrido. La energía de un fluido en cualquier momento consta de tr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nético: es la energía debida a la velocidad que posea el fl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cial gravitacional: es la energía debido a la altitud que un fluido po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ía de flujo: es la energía que un fluido contiene debido a la presión que pos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4292640"/>
            <a:ext cx="50626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ía cinétic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presión + potencial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y de continu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agine a hose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mount of water entering it must the same as the amount leaving it. To keep this true, if the hose become narrower the water must spe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area x velocity = output area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as the area decreases the velocity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w of continu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ing Bertoulli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133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/2 + P/ρ + g.h = cons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ρ + g.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onstant in both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08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 (input) = 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 (outpu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fore where velocity increases, P (pressure at a point) must decrease. Ie. When the area is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48360" y="1700280"/>
            <a:ext cx="21956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= flow spe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 =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 =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 =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 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.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6280"/>
            <a:ext cx="7272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/ρ + g.h = consta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341360"/>
            <a:ext cx="727236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.g + P/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h = constant  (1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ead of Flow (divide by gravity)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068640"/>
            <a:ext cx="727236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= 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nam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941720"/>
            <a:ext cx="727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a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21360"/>
            <a:ext cx="8675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namic Pressure + static pressure is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0360" y="1376280"/>
            <a:ext cx="4319640" cy="41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ydraul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9440" y="1521000"/>
            <a:ext cx="3447720" cy="348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59280" y="1440000"/>
            <a:ext cx="38275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 Pressure (P)= pressure at a certain point in a liquid. It is the force per unit area applied in a directin perpendicular to the surface of an object. N/m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ure = Force/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Units  = Newtons/meter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Units  =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ce = Pressure X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aulic systems can be used to gain mechanical advantage. i.e d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40000"/>
            <a:ext cx="18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y piston (input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9440" y="900000"/>
            <a:ext cx="18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1440000"/>
            <a:ext cx="9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5759280"/>
            <a:ext cx="43196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ure applied to an ideal liquid is tranmitted through it in all directions eq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cky</dc:creator>
  <dc:description/>
  <dc:language>en-US</dc:language>
  <cp:lastModifiedBy>Tony Lashley</cp:lastModifiedBy>
  <cp:revision>0</cp:revision>
  <dc:subject/>
  <dc:title>http://www.peterverdonedesigns.com/files/hydraulic%20system%20theory.pdf  </dc:title>
</cp:coreProperties>
</file>